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650-E919-4E69-A444-E99FBB18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F54-F4AC-4A55-AF1E-7A38678C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A5C-00E9-46DB-951A-86B07D6A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3C1-13C1-4066-85F4-21AE34BD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3D46-0106-4C4E-8A40-559A7FA3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61A8-B1F4-41A4-B94F-EB1134AA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4A2F-CD1E-41DA-A37F-15DC037E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5B67-0561-4329-9B84-66EB9710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FFA4-BF57-40AE-8D06-02598E7B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163E-8151-4482-9C1C-BCC6FE7E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FB90-BE8C-4BD8-B99D-65636F0E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6C3-BF7C-4E54-A49E-674758F0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A2F5-AA24-4D87-A66E-81A12D84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FEFD-78B0-498F-8562-64F23605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B912-CE38-4320-AA9B-770F4C97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DEA1-E552-4536-B6A7-2A98D13E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E022-6E73-40A8-9061-5A2948A9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B04B4-44C0-4559-B400-8748575F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796B-BCA2-4F2B-94DA-A35998B7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A57C-25B2-491D-AAF1-1B2D6D65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1B03C-4D2B-47A7-A922-16AF2549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69B2-F9E5-4E85-B96F-91B509F8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333-922B-4C22-B658-018B76C1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913F4-E6E7-4CA0-B824-B503E2CD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B0301-EA24-4F53-9905-C3B7529E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687A-226F-4145-BBF0-28078A7A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BA14-AFE4-44E3-9F86-595ACF3D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81E88-9064-4DE8-A9D6-30B56931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19590-7571-4C1E-B93A-4A3CEB0E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14434-8CB8-499A-AD58-ECD26B1C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0024C-A23B-4490-9975-CE5F4978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27324-D825-4C55-A786-92553584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ED2B-E4BD-425C-9F0A-89AEE324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877-7AF5-4B98-AB95-5C8BF56E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F6F3F-AF55-4681-93A3-0FE5CDF1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093FF-DF3C-4BE5-941B-B3100F4E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EDF3B-AE3B-40AC-B779-5A7B9702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6B207-66CC-429D-99E2-07634A66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A101-FB69-45C3-A5EC-D1D2F763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72ECD-B255-406A-A5D9-9F03609C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1032-A4C6-44D6-AF0B-D7B7D27E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ECAF-0D8D-4333-A34C-38CD6C51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07E9-EE7F-4E50-AF99-29B27389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3FC41-C3EB-4DC5-812E-20884790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A50-5401-4212-8E1E-C34C70BF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BA884-F5AD-4A3F-AF89-B98F8F66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E373E-30DC-4BFF-9ED0-92149CE0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BFAFB-08A5-459A-B4A9-9138F9F0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A12B8-3BEC-4A52-9A02-E9FD2844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D5C4C-B66A-44B2-B86F-86DCAA0B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6F629-358A-4391-B653-5954E6DC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79ED1-FD1A-4E3C-9F6F-BC170EF4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1A855-6704-431C-9ACB-75565E0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2EA5A-F58E-4FF4-84FB-716A498E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20A32-173A-48D9-B938-5D666F58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7B0-F46B-44C3-8C5C-593BA39F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6DFE-3CC4-4443-AF93-7D89BC98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59E-D3D4-4E01-AF14-D5A82437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B71-D614-420B-A424-BE189312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644-ACF5-403A-BDA0-50777F52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BBFB-AD59-46AA-A3B7-F8665056EB6C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8E5-4A95-4447-B0CA-B4FA4F56BCC5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C949-AD6E-4F4B-9C56-706A6DC55D9C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B251-BC70-4E1A-9475-1D2EAB8BE5D5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2202-E467-4B28-AC14-4DBFC8253726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2840" y="2120760"/>
            <a:ext cx="4614840" cy="16160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Project Presentation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282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ehavior was surprising good (contracts, structure, checkpoints)…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498240" indent="-1659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ick specific social/collaborative skills to narrow focus ont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eeting with groups was difficult - some required lots of attention which limited availability to other groups (attendance concerns too             groups vs. individual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ome sort of workshop on using different programs to avoid PowerPoint's… broaden their option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ry to simplify paperwork to avoid “overkill” aspect of directions/expectation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esources are a limiting factor (few iPads, laptop access, no lab acces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eserve for relevant topics (connections to modern, CER, models/examples)… takes time and front-loadin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0" name="Right Arrow 3"/>
          <p:cNvSpPr/>
          <p:nvPr/>
        </p:nvSpPr>
        <p:spPr>
          <a:xfrm>
            <a:off x="4038480" y="2895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d48800"/>
          </a:solidFill>
          <a:ln w="15840">
            <a:solidFill>
              <a:srgbClr val="ffc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f you are interested in receiving a copy of this PowerPoint or the handouts… email me at: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obcat320@hotmail.com  subject: Social Studi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nquiry/student selected topic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NxGL convening… new version of World histor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Research empires of interest (but are relevant to the course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llaborative group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evelopment of professional (2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w Cen M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C. skills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pplication of skills and knowledge gathered in previous uni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Mapping, timelines, argumentation, Conrad Demarest Model, technology…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my Lentz (7 years of collaboration)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requent recipe: Bob = new idea or goal, Amy = logistics and quality control… product = well balance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1800" indent="-1803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hared my idea for feedback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1800" indent="-1803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tarted working on ide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1800" indent="-1803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hared the idea with rest of World CTP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1800" indent="-1803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Opt in to assist in creation of the produc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180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Reflection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: Fewer is easier, the moment the idea is shared it is subject to change… what is the comfort level/degree of acceptable compromise?  </a:t>
            </a: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(Rhetorical…sorry!)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goal of the unit is to have students apply the empire model to regional empir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reated the following LT: </a:t>
            </a:r>
            <a:r>
              <a:rPr b="0" i="1" lang="en-US" sz="2400" spc="-1" strike="noStrike">
                <a:solidFill>
                  <a:srgbClr val="dfe6d0"/>
                </a:solidFill>
                <a:latin typeface="Tw Cen MT"/>
              </a:rPr>
              <a:t>Evaluate regional empires using the empire model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e final product would assess this target (as well as other things) but the checkpoints would also serve as formative assessments to indicate which groups (individuals would need assistance/remediation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Reflection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: Write a social target as well, I stressed the behavioral and functional requirements and even assessed those componen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Lot’s of components = considerable time (need to have benchmarks/checkpoint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roke the task into portion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Grouped by ability from previous empire un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392"/>
                </a:solidFill>
                <a:latin typeface="Tw Cen MT"/>
              </a:rPr>
              <a:t>Contracts (expectations and conduct were assessed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re-test to assess group functioning and build community (eClicker as a team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Begin task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Review and increas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nal producti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ssess/reflect/feedback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fter groups/contracts/eClicker… </a:t>
            </a:r>
            <a:r>
              <a:rPr b="0" lang="en-US" sz="2400" spc="-1" strike="noStrike">
                <a:solidFill>
                  <a:srgbClr val="f8f392"/>
                </a:solidFill>
                <a:latin typeface="Tw Cen MT"/>
              </a:rPr>
              <a:t>Directions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, explanation of the assignment/expectations purpo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481680" indent="-1605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lection of empir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481680" indent="-1605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Roles/division of labo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40120" indent="-2401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392"/>
                </a:solidFill>
                <a:latin typeface="Tw Cen MT"/>
              </a:rPr>
              <a:t>Mapping/time-lining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as skills and as future </a:t>
            </a:r>
            <a:r>
              <a:rPr b="0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evidenc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0120" indent="-2401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ubric One (Largely skills and organizing information into the empire model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481680" indent="-1605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How it is grad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481680" indent="-1605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egree of information requir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40120" indent="-2401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Reflection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: Format was solid, students were confident and informed… I was impressed with results (step by step approach, requiring checkpoints, and not rushing to final product were critical (gathering evidence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fter demonstrating proficiency… groups began to make </a:t>
            </a:r>
            <a:r>
              <a:rPr b="0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Claims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and organize </a:t>
            </a:r>
            <a:r>
              <a:rPr b="0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evidence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using a </a:t>
            </a:r>
            <a:r>
              <a:rPr b="0" lang="en-US" sz="2400" spc="-1" strike="noStrike" u="sng">
                <a:solidFill>
                  <a:srgbClr val="f8f392"/>
                </a:solidFill>
                <a:uFillTx/>
                <a:latin typeface="Tw Cen MT"/>
              </a:rPr>
              <a:t>CER template (requiring teacher approval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roups then focused on creating a product to share those arguments (</a:t>
            </a:r>
            <a:r>
              <a:rPr b="0" lang="en-US" sz="2400" spc="-1" strike="noStrike">
                <a:solidFill>
                  <a:srgbClr val="f8f392"/>
                </a:solidFill>
                <a:latin typeface="Tw Cen MT"/>
              </a:rPr>
              <a:t>suggestions were offered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, many still chose PowerPoint… limited exposure to others?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ubric Two: not just information but quality of information (comparisons or just statements, best example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392"/>
                </a:solidFill>
                <a:latin typeface="Tw Cen MT"/>
              </a:rPr>
              <a:t>Students reflected 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n: the concept, the assignment, their performance, group performanc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EEDBACK from Surveys: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-Select own groups (hard to work with partner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-more work time yet (7 days, roughly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-enjoyed the freedom of topic and produc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-felt prepared for the materi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-too much paper… break down even further or relax the requirements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rezi – Johnsto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Video – Yan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owerPoint – Johnso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owerPoint - Evan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3:13:14Z</dcterms:created>
  <dc:creator>Kuenzi</dc:creator>
  <dc:description/>
  <dc:language>en-US</dc:language>
  <cp:lastModifiedBy>Owner</cp:lastModifiedBy>
  <dcterms:modified xsi:type="dcterms:W3CDTF">2013-02-15T21:09:52Z</dcterms:modified>
  <cp:revision>24</cp:revision>
  <dc:subject/>
  <dc:title>Regional Empires</dc:title>
</cp:coreProperties>
</file>